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64F-FF7F-4988-A192-05184317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573-C28E-414E-A37C-905E801D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7CE-2674-42E7-B38B-A0184A3D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5E0-DA65-4E03-8E30-FB496211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C374-5C34-4B7D-BB14-94E55C56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CF92-96D2-41CD-927F-F4B647A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7552-87BC-4EBE-BD9D-C14887F9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82DF-4AEB-4E74-873E-8556926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6ADC-CE65-43A8-9B77-2AD439BF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66A9-1FED-4BFC-89E4-681E1C2F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DF1A-BC14-41E8-8B88-26B4884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C14-CD54-4FC4-BA2A-0D34A845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4E6-6AC3-4FF1-A8E2-05FA33C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3672-1E54-4673-8469-DD5D9A6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F80-0B0E-418E-8B95-512B14E2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F21E-42A2-488B-87BE-82D5BD52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197-A0D9-4BFD-8BE3-B20173F6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CDF-9AA5-43FD-A8F4-CCD11091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C38-7ADF-485B-A044-980135E9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900-5A87-428D-8300-CAEC5EE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311-7B17-4034-93DB-9803369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F0D-E037-4336-9A93-4AEB1B4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DC3-4E41-4626-AAC7-02D6D14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DBE-9DD5-4ABC-8541-96F9F3B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B1C1-1DAF-45C1-B119-35FF5D4CDB6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7685-8750-4480-8037-676544157AF8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WWII Banzai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Zachariah Paul Konieczn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nzai mean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Japanese war cry during WWII, meaning “Long live the Emperor”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Japanese  motivational cry used before wars,  and even friendly games of sports such as baseball and football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bush that originates from Japa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0,000 years of life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mpany that makes children's toy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me of the battles that banzai charges were used in are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Waterlo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Att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Okinaw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Iwo Jima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Japanese did banzai charges because/when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t followed their code of hon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y thought: “It is better to die an honorable man than to live with no honor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y ran out of ammo for their weap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ttles that  the Japanese lost due to banzai charges are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Iwo Jim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Att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nzai today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nzai is still said today for games and things of that natu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t is said three times in a row, with whoever is saying it raising their arm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End :{D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57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6:39Z</dcterms:created>
  <dc:creator>Zach</dc:creator>
  <dc:description/>
  <dc:language>en-US</dc:language>
  <cp:lastModifiedBy>Zach</cp:lastModifiedBy>
  <dcterms:modified xsi:type="dcterms:W3CDTF">2010-12-16T13:45:00Z</dcterms:modified>
  <cp:revision>8</cp:revision>
  <dc:subject/>
  <dc:title>WWII Banzai</dc:title>
</cp:coreProperties>
</file>